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D012-6B11-4C7B-86BD-D663D2583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446D-27C4-48C6-9059-33FC0DC6CE0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BE6A-E49D-4F3D-8B5C-964A59F1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416D-9260-4329-9FA6-58C45C1D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FFA4-8ACB-496D-9D42-DD7750FF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7FD-3C93-47D3-97FB-B45A28FD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FDC7-6C4E-45D4-89C2-021FD6F1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C720-921B-4DD5-8E05-753E6ACD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BFF0-EBE4-4C0A-AF12-789C42A9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FE40-4E7C-4D1F-893D-713DD136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9E55-27FC-4FF1-971A-67A6CDFA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C4A2-0ECC-462D-AFE1-8EBB5773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904A-C9F0-4451-A2AF-BB6117BE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B0FE-8663-40C3-A279-6D289D73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2150-A0CB-4C9B-9004-15BF126E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43E6-3A51-4F7C-ACF7-1959C1DD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6CB1-DE8E-4F1C-BC0A-00ACF705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FC89-CB6A-4FE5-807E-A10A85F4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6A90-7941-442F-98CD-D7E47F28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1E7-29E6-436B-9D30-7ED44B12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95F7-A6CB-46E3-9FB1-26DBAC30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8868-31FC-4F98-827F-82E36325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9D91-3D49-45CA-84E1-8D22D52B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707-5B49-4C7F-8F1E-2722ED46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5D70-78E2-4358-B23E-359A0D2C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8FF9-81ED-4870-9E3E-8A471647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9BBC-621B-45CA-87EB-28D74AAEA56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9207-7DA3-47C4-B56D-F5293938A49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h/henryford106096.html" TargetMode="External"/><Relationship Id="rId2" Type="http://schemas.openxmlformats.org/officeDocument/2006/relationships/hyperlink" Target="http://www.brainyquote.com/quotes/quotes/s/stevejobs126246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37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elc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590920" y="4952880"/>
            <a:ext cx="6400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ack Williams, Dire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04920" y="380880"/>
            <a:ext cx="1600200" cy="1600200"/>
          </a:xfrm>
          <a:prstGeom prst="rect">
            <a:avLst/>
          </a:prstGeom>
          <a:solidFill>
            <a:srgbClr val="9f9d4f"/>
          </a:solidFill>
          <a:ln w="0">
            <a:noFill/>
          </a:ln>
          <a:effectLst>
            <a:outerShdw dist="222200" dir="8939309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CA 3004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e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njo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ursing Home MDS – June 199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me Health OASIS – August 199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patient Rehab Facility PAI – Januar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ng Bed MDS – Jul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ng Term Care Hospital CDS – October 201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tal Assessments (through 04/25/12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220,0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 ~163,5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4,7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verage Monthly Assessments Ad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1,6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~1,1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38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A 300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asu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blic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sessment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ealthcare Acquired Infections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m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ffice of Clinical Standards and 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id and CHIP Ser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s for Disease Control and Prevention – CD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jo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Harbor Plac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aryland Science Cent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Aquari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Maritime Muse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ood Eat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www.baltimore.or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 means doing it right when no one is looking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1"/>
              </a:rPr>
              <a:t>Henry F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 a yardstick of quality. Some people aren't used to an environment where excellence is expected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2"/>
              </a:rPr>
              <a:t>Steve Job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18:08Z</dcterms:created>
  <dc:creator>IFMC Employee</dc:creator>
  <dc:description/>
  <dc:language>en-US</dc:language>
  <cp:lastModifiedBy>Jennifer Parrish</cp:lastModifiedBy>
  <dcterms:modified xsi:type="dcterms:W3CDTF">2012-05-11T11:47:03Z</dcterms:modified>
  <cp:revision>65</cp:revision>
  <dc:subject/>
  <dc:title>QIES Year in Review -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5215944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